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3F5A2-75B4-4AC0-89DD-7A816ECC5673}" type="slidenum"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Thanks Prof. Matellan. I am going to start the presentation of my Dissertation which is about the Locomotion of Limbless Modular rob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3E1-53FC-456A-963A-FD96D8B9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E09-38D4-4C59-9412-4AA1EA4B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297-9A37-4DF1-8B58-DCBA408A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710-BFB7-4DB2-A65B-66E4D74D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A3D-9024-4676-98CC-C7B0C74C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F56-8865-40D9-BE7A-52E16E15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34A-B4FB-4755-AC1D-A55C2F3A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CB26-0D83-4D0F-898D-0F51906D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3F1-EA9D-4401-92FC-F1322A07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4FA-DED1-495E-B974-FBE8BC69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5B0-9AF4-428E-A2CD-4958DEBA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F6A-832D-4831-8701-6578CCD9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736EE-687E-47BC-ACAC-DFFBC0B1049E}" type="slidenum"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44760" y="4294080"/>
            <a:ext cx="6549840" cy="16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9" name=""/>
          <p:cNvSpPr/>
          <p:nvPr/>
        </p:nvSpPr>
        <p:spPr>
          <a:xfrm>
            <a:off x="569880" y="355680"/>
            <a:ext cx="89470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480" bIns="45000" anchor="t">
            <a:noAutofit/>
          </a:bodyPr>
          <a:p>
            <a:pPr algn="ctr"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Motion Control of Differential Wheeled Robots 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with Joint Limit Constraints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"/>
          <p:cNvSpPr/>
          <p:nvPr/>
        </p:nvSpPr>
        <p:spPr>
          <a:xfrm>
            <a:off x="2863800" y="4464000"/>
            <a:ext cx="3630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J. Gonzalez-Gomez, J. G. Victores,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. Valero-Gomez, M. Abderrahi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1" name=""/>
          <p:cNvSpPr/>
          <p:nvPr/>
        </p:nvSpPr>
        <p:spPr>
          <a:xfrm>
            <a:off x="3854520" y="5164200"/>
            <a:ext cx="1647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Robotics Lab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2" name=""/>
          <p:cNvSpPr/>
          <p:nvPr/>
        </p:nvSpPr>
        <p:spPr>
          <a:xfrm>
            <a:off x="3197160" y="5489640"/>
            <a:ext cx="3424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6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Carlos III University of Madrid, Spain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04840" y="5135400"/>
            <a:ext cx="632160" cy="632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908760" y="5137200"/>
            <a:ext cx="650880" cy="60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52880" y="1782720"/>
            <a:ext cx="1971720" cy="1623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338560" y="1490760"/>
            <a:ext cx="2028600" cy="223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90960" y="6735600"/>
            <a:ext cx="6029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52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2011 IEEE International Conference on Robotics and Biomimetics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2360" y="6621120"/>
            <a:ext cx="8956440" cy="468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"/>
          <p:cNvSpPr/>
          <p:nvPr/>
        </p:nvSpPr>
        <p:spPr>
          <a:xfrm>
            <a:off x="7513560" y="7081920"/>
            <a:ext cx="860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8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Bitstream Vera Sans"/>
              </a:rPr>
              <a:t>Dec/2011</a:t>
            </a:r>
            <a:endParaRPr b="0" lang="en-US" sz="11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"/>
          <p:cNvSpPr/>
          <p:nvPr/>
        </p:nvSpPr>
        <p:spPr>
          <a:xfrm>
            <a:off x="3946680" y="7042320"/>
            <a:ext cx="3543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52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The Mövenpick Resort and Spa Karon Beach, Phuket, Thailand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93560" y="6718320"/>
            <a:ext cx="3106800" cy="762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44720" y="3843360"/>
            <a:ext cx="4041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peaker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: Prof. Mohamed Abderrahi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19280" y="358920"/>
            <a:ext cx="36687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t">
            <a:noAutofit/>
          </a:bodyPr>
          <a:p>
            <a:pPr algn="ctr"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Experiments (I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1" name=""/>
          <p:cNvSpPr/>
          <p:nvPr/>
        </p:nvSpPr>
        <p:spPr>
          <a:xfrm>
            <a:off x="5083200" y="1311120"/>
            <a:ext cx="459900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A robot prototype with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limited wheel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has been designed and buil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Wheels limited by shap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Servos with mechanical limi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IR led on the top for tracking the trajectory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06520" y="1189080"/>
            <a:ext cx="4240080" cy="54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19280" y="358920"/>
            <a:ext cx="36687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t">
            <a:noAutofit/>
          </a:bodyPr>
          <a:p>
            <a:pPr algn="ctr"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Experiments (II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4" name=""/>
          <p:cNvSpPr/>
          <p:nvPr/>
        </p:nvSpPr>
        <p:spPr>
          <a:xfrm>
            <a:off x="860400" y="996840"/>
            <a:ext cx="7140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Real trajectory performed by the robo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03280" y="1676520"/>
            <a:ext cx="6688080" cy="5182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089840" y="666720"/>
            <a:ext cx="952560" cy="471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7" name=""/>
          <p:cNvSpPr/>
          <p:nvPr/>
        </p:nvSpPr>
        <p:spPr>
          <a:xfrm>
            <a:off x="7143840" y="725400"/>
            <a:ext cx="14637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882800" y="301680"/>
            <a:ext cx="36687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t">
            <a:noAutofit/>
          </a:bodyPr>
          <a:p>
            <a:pPr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9" name=""/>
          <p:cNvSpPr/>
          <p:nvPr/>
        </p:nvSpPr>
        <p:spPr>
          <a:xfrm>
            <a:off x="831960" y="1174680"/>
            <a:ext cx="807408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Swing princip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A new locomotion principle for robots with limited wheels has been propos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It is based on wheels' oscillatory movemen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Despite the limited wheels, the robots can travel any distance in some direction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1963800" y="3573360"/>
            <a:ext cx="36687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t">
            <a:noAutofit/>
          </a:bodyPr>
          <a:p>
            <a:pPr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1" name=""/>
          <p:cNvSpPr/>
          <p:nvPr/>
        </p:nvSpPr>
        <p:spPr>
          <a:xfrm>
            <a:off x="822240" y="4149720"/>
            <a:ext cx="8074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Test the swing principle with bio-inspired oscillators, such as CPGs (Central Pattern Generator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Application to tracked robo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Application to climbing slop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Application to wheelchai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4760" y="4294080"/>
            <a:ext cx="6549840" cy="16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3" name=""/>
          <p:cNvSpPr/>
          <p:nvPr/>
        </p:nvSpPr>
        <p:spPr>
          <a:xfrm>
            <a:off x="569880" y="355680"/>
            <a:ext cx="89470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480" bIns="45000" anchor="t">
            <a:noAutofit/>
          </a:bodyPr>
          <a:p>
            <a:pPr algn="ctr"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Motion Control of Differential Wheeled Robots 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with Joint Limit Constraints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4" name=""/>
          <p:cNvSpPr/>
          <p:nvPr/>
        </p:nvSpPr>
        <p:spPr>
          <a:xfrm>
            <a:off x="2863800" y="4464000"/>
            <a:ext cx="3630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J. Gonzalez-Gomez, J. G. Victores,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. Valero-Gomez, M. Abderrahi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5" name=""/>
          <p:cNvSpPr/>
          <p:nvPr/>
        </p:nvSpPr>
        <p:spPr>
          <a:xfrm>
            <a:off x="3854520" y="5164200"/>
            <a:ext cx="1647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Robotics Lab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6" name=""/>
          <p:cNvSpPr/>
          <p:nvPr/>
        </p:nvSpPr>
        <p:spPr>
          <a:xfrm>
            <a:off x="3197160" y="5491080"/>
            <a:ext cx="3424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6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Carlos III University of Madrid, Spain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04840" y="5137200"/>
            <a:ext cx="632160" cy="631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908760" y="5137200"/>
            <a:ext cx="650880" cy="603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952880" y="1782720"/>
            <a:ext cx="1971720" cy="1623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38560" y="1490760"/>
            <a:ext cx="2028600" cy="2233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90960" y="6735600"/>
            <a:ext cx="6029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52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2011 IEEE International Conference on Robotics and Biomimetics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22360" y="6622920"/>
            <a:ext cx="8956440" cy="50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3" name=""/>
          <p:cNvSpPr/>
          <p:nvPr/>
        </p:nvSpPr>
        <p:spPr>
          <a:xfrm>
            <a:off x="7513560" y="7081920"/>
            <a:ext cx="860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8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Bitstream Vera Sans"/>
              </a:rPr>
              <a:t>Dec/2011</a:t>
            </a:r>
            <a:endParaRPr b="0" lang="en-US" sz="11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4" name=""/>
          <p:cNvSpPr/>
          <p:nvPr/>
        </p:nvSpPr>
        <p:spPr>
          <a:xfrm>
            <a:off x="3946680" y="7042320"/>
            <a:ext cx="3543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52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The Mövenpick Resort and Spa Karon Beach, Phuket, Thailand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493560" y="6718320"/>
            <a:ext cx="3106800" cy="762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844720" y="3844800"/>
            <a:ext cx="4041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peaker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: Prof. Mohamed Abderrahi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584280" y="898200"/>
            <a:ext cx="8956440" cy="468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"/>
          <p:cNvSpPr/>
          <p:nvPr/>
        </p:nvSpPr>
        <p:spPr>
          <a:xfrm>
            <a:off x="3672000" y="1506600"/>
            <a:ext cx="14364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t">
            <a:noAutofit/>
          </a:bodyPr>
          <a:p>
            <a:pPr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63400" y="6705360"/>
            <a:ext cx="8956800" cy="468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6" name=""/>
          <p:cNvSpPr/>
          <p:nvPr/>
        </p:nvSpPr>
        <p:spPr>
          <a:xfrm>
            <a:off x="1452600" y="2335320"/>
            <a:ext cx="421632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426"/>
              </a:spcBef>
              <a:spcAft>
                <a:spcPts val="1426"/>
              </a:spcAft>
              <a:buClr>
                <a:srgbClr val="000000"/>
              </a:buClr>
              <a:buFont typeface="Bitstream Vera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426"/>
              </a:spcBef>
              <a:spcAft>
                <a:spcPts val="1426"/>
              </a:spcAft>
              <a:buClr>
                <a:srgbClr val="000000"/>
              </a:buClr>
              <a:buFont typeface="Bitstream Vera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Swing principl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426"/>
              </a:spcBef>
              <a:spcAft>
                <a:spcPts val="1426"/>
              </a:spcAft>
              <a:buClr>
                <a:srgbClr val="000000"/>
              </a:buClr>
              <a:buFont typeface="Bitstream Vera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Kinematic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426"/>
              </a:spcBef>
              <a:spcAft>
                <a:spcPts val="1426"/>
              </a:spcAft>
              <a:buClr>
                <a:srgbClr val="000000"/>
              </a:buClr>
              <a:buFont typeface="Bitstream Vera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426"/>
              </a:spcBef>
              <a:spcAft>
                <a:spcPts val="1426"/>
              </a:spcAft>
              <a:buClr>
                <a:srgbClr val="000000"/>
              </a:buClr>
              <a:buFont typeface="Bitstream Vera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Conclusions and future wo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"/>
          <p:cNvSpPr/>
          <p:nvPr/>
        </p:nvSpPr>
        <p:spPr>
          <a:xfrm>
            <a:off x="7118280" y="3543480"/>
            <a:ext cx="181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8" name=""/>
          <p:cNvSpPr/>
          <p:nvPr/>
        </p:nvSpPr>
        <p:spPr>
          <a:xfrm>
            <a:off x="473040" y="6813720"/>
            <a:ext cx="602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52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2011 IEEE International Conference on Robotics and Biomimetics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"/>
          <p:cNvSpPr/>
          <p:nvPr/>
        </p:nvSpPr>
        <p:spPr>
          <a:xfrm>
            <a:off x="600120" y="466560"/>
            <a:ext cx="6754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6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Bitstream Vera Sans"/>
              </a:rPr>
              <a:t>Motion Control of Differential Wheeled Robots with Joint Limit Constraints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95760" y="272880"/>
            <a:ext cx="3668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t">
            <a:noAutofit/>
          </a:bodyPr>
          <a:p>
            <a:pPr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Rolling princip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"/>
          <p:cNvSpPr/>
          <p:nvPr/>
        </p:nvSpPr>
        <p:spPr>
          <a:xfrm>
            <a:off x="615960" y="1012680"/>
            <a:ext cx="714060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Rolling behaviour is inherent to wheel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Wheels are assumed to rotate indefinitely in any direct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All kind of known wheels rely on 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1840" y="2960640"/>
            <a:ext cx="1468440" cy="140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068720" y="2960640"/>
            <a:ext cx="1463760" cy="1411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446880" y="3057480"/>
            <a:ext cx="1444680" cy="1300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266840" y="4879800"/>
            <a:ext cx="3484440" cy="1846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432400" y="5156280"/>
            <a:ext cx="2892600" cy="157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55600" y="2641680"/>
            <a:ext cx="1949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96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en-GB" sz="16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 </a:t>
            </a:r>
            <a:r>
              <a:rPr b="0" i="1" lang="en-GB" sz="16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Standard whe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"/>
          <p:cNvSpPr/>
          <p:nvPr/>
        </p:nvSpPr>
        <p:spPr>
          <a:xfrm>
            <a:off x="4089240" y="2641680"/>
            <a:ext cx="19497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96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en-GB" sz="16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Castor whe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"/>
          <p:cNvSpPr/>
          <p:nvPr/>
        </p:nvSpPr>
        <p:spPr>
          <a:xfrm>
            <a:off x="6308640" y="2603520"/>
            <a:ext cx="1797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96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en-GB" sz="16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Swedish whe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0" name=""/>
          <p:cNvSpPr/>
          <p:nvPr/>
        </p:nvSpPr>
        <p:spPr>
          <a:xfrm>
            <a:off x="2327400" y="4776840"/>
            <a:ext cx="17967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96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en-GB" sz="16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Wheg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1" name=""/>
          <p:cNvSpPr/>
          <p:nvPr/>
        </p:nvSpPr>
        <p:spPr>
          <a:xfrm>
            <a:off x="6470640" y="4824360"/>
            <a:ext cx="1797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96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en-GB" sz="16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Rotatory leg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11160" y="1022400"/>
            <a:ext cx="6221520" cy="523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3" name=""/>
          <p:cNvSpPr/>
          <p:nvPr/>
        </p:nvSpPr>
        <p:spPr>
          <a:xfrm>
            <a:off x="3433680" y="254160"/>
            <a:ext cx="36687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t">
            <a:noAutofit/>
          </a:bodyPr>
          <a:p>
            <a:pPr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Limited wheel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4" name=""/>
          <p:cNvSpPr/>
          <p:nvPr/>
        </p:nvSpPr>
        <p:spPr>
          <a:xfrm>
            <a:off x="1771560" y="1111320"/>
            <a:ext cx="60562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Wheels that cannot turn freely due to constrain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759280" y="3751200"/>
            <a:ext cx="2586240" cy="3017880"/>
            <a:chOff x="5759280" y="3751200"/>
            <a:chExt cx="2586240" cy="301788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5759280" y="3751200"/>
              <a:ext cx="1184400" cy="30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7153200" y="3751200"/>
              <a:ext cx="1192320" cy="301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5894280" y="3427560"/>
            <a:ext cx="878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Bitstream Vera Sans"/>
              </a:rPr>
              <a:t>Limit 1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9" name=""/>
          <p:cNvSpPr/>
          <p:nvPr/>
        </p:nvSpPr>
        <p:spPr>
          <a:xfrm>
            <a:off x="7334280" y="3417840"/>
            <a:ext cx="877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Bitstream Vera Sans"/>
              </a:rPr>
              <a:t>Limit 2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0" name=""/>
          <p:cNvSpPr/>
          <p:nvPr/>
        </p:nvSpPr>
        <p:spPr>
          <a:xfrm>
            <a:off x="1446120" y="2028960"/>
            <a:ext cx="239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96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mited by shap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1" name=""/>
          <p:cNvSpPr/>
          <p:nvPr/>
        </p:nvSpPr>
        <p:spPr>
          <a:xfrm>
            <a:off x="1379520" y="2562120"/>
            <a:ext cx="2166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96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. Broken wh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2" name=""/>
          <p:cNvSpPr/>
          <p:nvPr/>
        </p:nvSpPr>
        <p:spPr>
          <a:xfrm>
            <a:off x="5048280" y="2017800"/>
            <a:ext cx="3771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96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mited by the environmen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" name=""/>
          <p:cNvSpPr/>
          <p:nvPr/>
        </p:nvSpPr>
        <p:spPr>
          <a:xfrm>
            <a:off x="5162400" y="2557440"/>
            <a:ext cx="3473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96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. A Robot in a narrow path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6081840" y="5576760"/>
            <a:ext cx="2984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600" bIns="45000" anchor="t" vert="eaVer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Robot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5" name=""/>
          <p:cNvSpPr/>
          <p:nvPr/>
        </p:nvSpPr>
        <p:spPr>
          <a:xfrm>
            <a:off x="7719840" y="5549760"/>
            <a:ext cx="2988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600" bIns="45000" anchor="t" vert="eaVer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Robot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" name=""/>
          <p:cNvSpPr/>
          <p:nvPr/>
        </p:nvSpPr>
        <p:spPr>
          <a:xfrm>
            <a:off x="995400" y="1870200"/>
            <a:ext cx="3290760" cy="5083200"/>
          </a:xfrm>
          <a:custGeom>
            <a:avLst/>
            <a:gdLst>
              <a:gd name="textAreaLeft" fmla="*/ 160560 w 3290760"/>
              <a:gd name="textAreaRight" fmla="*/ 3130200 w 3290760"/>
              <a:gd name="textAreaTop" fmla="*/ 160560 h 5083200"/>
              <a:gd name="textAreaBottom" fmla="*/ 4922640 h 5083200"/>
            </a:gdLst>
            <a:ahLst/>
            <a:rect l="textAreaLeft" t="textAreaTop" r="textAreaRight" b="textAreaBottom"/>
            <a:pathLst>
              <a:path w="21600" h="33364">
                <a:moveTo>
                  <a:pt x="3600" y="0"/>
                </a:moveTo>
                <a:arcTo wR="3600" hR="3600" stAng="16200000" swAng="-5400000"/>
                <a:lnTo>
                  <a:pt x="0" y="29764"/>
                </a:lnTo>
                <a:arcTo wR="3600" hR="3600" stAng="10800000" swAng="-5400000"/>
                <a:lnTo>
                  <a:pt x="18000" y="333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7" name=""/>
          <p:cNvSpPr/>
          <p:nvPr/>
        </p:nvSpPr>
        <p:spPr>
          <a:xfrm>
            <a:off x="4684680" y="1852560"/>
            <a:ext cx="4537080" cy="5133960"/>
          </a:xfrm>
          <a:custGeom>
            <a:avLst/>
            <a:gdLst>
              <a:gd name="textAreaLeft" fmla="*/ 221400 w 4537080"/>
              <a:gd name="textAreaRight" fmla="*/ 4315680 w 4537080"/>
              <a:gd name="textAreaTop" fmla="*/ 221400 h 5133960"/>
              <a:gd name="textAreaBottom" fmla="*/ 4912560 h 5133960"/>
            </a:gdLst>
            <a:ahLst/>
            <a:rect l="textAreaLeft" t="textAreaTop" r="textAreaRight" b="textAreaBottom"/>
            <a:pathLst>
              <a:path w="21600" h="24441">
                <a:moveTo>
                  <a:pt x="3600" y="0"/>
                </a:moveTo>
                <a:arcTo wR="3600" hR="3600" stAng="16200000" swAng="-5400000"/>
                <a:lnTo>
                  <a:pt x="0" y="20841"/>
                </a:lnTo>
                <a:arcTo wR="3600" hR="3600" stAng="10800000" swAng="-5400000"/>
                <a:lnTo>
                  <a:pt x="18000" y="24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236600" y="3094200"/>
            <a:ext cx="2844720" cy="307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095560" y="6238800"/>
            <a:ext cx="1092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6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Bitstream Vera Sans"/>
              </a:rPr>
              <a:t>Rot. angle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77880" y="1089000"/>
            <a:ext cx="2189160" cy="480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1947960" y="291960"/>
            <a:ext cx="5648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t">
            <a:noAutofit/>
          </a:bodyPr>
          <a:p>
            <a:pPr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Locomotion with limited wheel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2" name=""/>
          <p:cNvSpPr/>
          <p:nvPr/>
        </p:nvSpPr>
        <p:spPr>
          <a:xfrm>
            <a:off x="330120" y="1989000"/>
            <a:ext cx="554220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Imagine a robot with a broken wheel..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Is it possible to achieve locomotion with limited wheel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The rolling principle cannot be appli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Another locomotion principle is necessary..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1162080" y="4979880"/>
            <a:ext cx="76802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Improving the fault-tolerance of robots in critical mission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Recovering the robot if wheels brea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Study and Develop new “locomotion gaits” with wheel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611680" y="915840"/>
            <a:ext cx="4050000" cy="292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43040" y="1157400"/>
            <a:ext cx="2388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The proble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727200" y="4183200"/>
            <a:ext cx="2189160" cy="480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7" name=""/>
          <p:cNvSpPr/>
          <p:nvPr/>
        </p:nvSpPr>
        <p:spPr>
          <a:xfrm>
            <a:off x="792000" y="4251240"/>
            <a:ext cx="2389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Application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28560" y="2779560"/>
            <a:ext cx="5321520" cy="2749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1314360" y="368280"/>
            <a:ext cx="6556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t">
            <a:noAutofit/>
          </a:bodyPr>
          <a:p>
            <a:pPr algn="ctr"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Our contribution: the swing princip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771480" y="1773360"/>
            <a:ext cx="7140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Differential robots with limited wheels can travel any distance in some directions if applying the swing princip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"/>
          <p:cNvSpPr/>
          <p:nvPr/>
        </p:nvSpPr>
        <p:spPr>
          <a:xfrm>
            <a:off x="743040" y="1279440"/>
            <a:ext cx="8024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Swing princip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: Oscillating the wheels within the angle limi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5880" y="3000240"/>
            <a:ext cx="4948200" cy="234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559560" y="3348000"/>
                <a:ext cx="27622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+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234120" y="3978360"/>
                <a:ext cx="3386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t+Δ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6899400" y="2827440"/>
            <a:ext cx="2246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Oscillation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900760"/>
            <a:ext cx="2246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Parameter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7" name=""/>
          <p:cNvSpPr/>
          <p:nvPr/>
        </p:nvSpPr>
        <p:spPr>
          <a:xfrm>
            <a:off x="2757600" y="5910120"/>
            <a:ext cx="4243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Amplitude (A), Offset (O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Period (T),  Phase difference (     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186600" y="6345360"/>
                <a:ext cx="5094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ϕ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386160" y="368280"/>
            <a:ext cx="36687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t">
            <a:noAutofit/>
          </a:bodyPr>
          <a:p>
            <a:pPr algn="ctr"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Kinematic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4424400" y="1389240"/>
            <a:ext cx="452124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{Yi, Xi}: Global fram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{XR,YR}: Robot fram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(x,y,  ): Robot position and orientation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: Wheel's radi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: Distance from the wheels to the 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57160" y="1198440"/>
            <a:ext cx="2997360" cy="286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040360" y="2206800"/>
                <a:ext cx="2649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987480" y="4384800"/>
            <a:ext cx="7140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Forward kinematic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581120" y="4978440"/>
                <a:ext cx="3468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πr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+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ϕ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560600" y="5559480"/>
                <a:ext cx="34430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πr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+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ϕ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571760" y="6207120"/>
                <a:ext cx="35780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θ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ϕ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626080" y="5019840"/>
                <a:ext cx="2925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n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646600" y="5826240"/>
                <a:ext cx="2860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n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325520" y="4929120"/>
            <a:ext cx="7345440" cy="1954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414520" y="378000"/>
            <a:ext cx="5511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t">
            <a:noAutofit/>
          </a:bodyPr>
          <a:p>
            <a:pPr algn="ctr"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Locomotion gait and trajector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1" name=""/>
          <p:cNvSpPr/>
          <p:nvPr/>
        </p:nvSpPr>
        <p:spPr>
          <a:xfrm>
            <a:off x="635040" y="1095480"/>
            <a:ext cx="7140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The robot moves sideway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Step: distance travelled per cyc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74880" y="2436840"/>
            <a:ext cx="5049720" cy="1981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54120" y="4807080"/>
            <a:ext cx="71406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When                  the step is maximum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The step is proportional to the amplitude (A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The period determines the mean speed along the x axi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658880" y="4834080"/>
                <a:ext cx="101124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414520" y="378000"/>
            <a:ext cx="3967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t">
            <a:noAutofit/>
          </a:bodyPr>
          <a:p>
            <a:pPr algn="ctr"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itstream Vera Sans"/>
                <a:ea typeface="Bitstream Vera Sans"/>
              </a:rPr>
              <a:t>Trajectory orienta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6" name=""/>
          <p:cNvSpPr/>
          <p:nvPr/>
        </p:nvSpPr>
        <p:spPr>
          <a:xfrm>
            <a:off x="801720" y="1252440"/>
            <a:ext cx="7140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The robot can also move in different directions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The trajectory orientation depends on the offset (O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77880" y="2241720"/>
            <a:ext cx="4673520" cy="4352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211800" y="2460600"/>
            <a:ext cx="2144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Limitation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9" name=""/>
          <p:cNvSpPr/>
          <p:nvPr/>
        </p:nvSpPr>
        <p:spPr>
          <a:xfrm>
            <a:off x="5799240" y="3119400"/>
            <a:ext cx="40399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The robo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canno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move in all the directions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Increasing O implies decreasing the Amplitud (A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Bitstream Vera Sans"/>
              </a:rPr>
              <a:t>When A=0, there is no locomot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9:11:30Z</dcterms:created>
  <dc:creator>juan</dc:creator>
  <dc:description/>
  <dc:language>en-US</dc:language>
  <cp:lastModifiedBy>Juan Gonzalez</cp:lastModifiedBy>
  <cp:lastPrinted>2011-05-21T22:32:01Z</cp:lastPrinted>
  <dcterms:modified xsi:type="dcterms:W3CDTF">2011-11-23T13:07:42Z</dcterms:modified>
  <cp:revision>459</cp:revision>
  <dc:subject/>
  <dc:title/>
</cp:coreProperties>
</file>